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112-C1E3-4DF7-AF10-7845FA00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342-7E85-44EE-9EA0-511085E1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5EE8C-BD1B-4351-8483-DFF21214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430E8-D739-4464-91A7-84B62B92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DBE5F-8735-4748-8D96-A322D753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B0B34-B504-43DF-B0E0-6827333A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C16D3-50D3-4E92-AB06-F616F1D1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5D480-353B-44CD-9239-4F84D65A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E3CA0-6986-460E-B191-B8A8682A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088BE-C9BB-4AC5-AEC7-8ABABEAE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D3F36-CB47-4828-AF22-79B07F4D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EBB58-8FB6-4B32-A198-E99D6C58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F13-95E0-4860-B829-18314D0F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44746-CD31-4F3E-99D3-B9D78282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C7D5D-5580-4435-A391-02CC80FB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C3270-AD04-46D7-8EC7-D977FB21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15944-66D8-4F12-B77E-CF903A9D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E059A-B240-40E2-9B94-60E8F62E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617F7-AF8D-4A8E-9BB8-D4C87B75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F519B-0416-430F-AB52-9A238ECE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E1532-E957-43F6-9B40-810E3A1F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C94D5-3EC6-4E6C-9583-B043D625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53482-5387-4E82-96A7-9C37A115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3CF-BB9C-4687-8BD0-479E70C7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56736-3D1D-420F-8B47-6A10990F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48FA3-856A-4B9B-A1C0-8C436BBC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7EC95-1E22-4C89-AB3D-FD334248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10916-3402-44A4-B775-DC4DD561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378CC-F01D-4898-9F99-471102A0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3E8C6-F603-4DFF-8912-25E7EE88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F9E6F-C122-4CCB-ABAD-ECFAA280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8A9D4-B2AB-4734-9C39-F6998CF6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4DC4D-A88F-46A0-9725-D4FD7258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A4957-D0AD-46FA-81EC-1FA676EF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C4D6-87EA-4988-A266-9F660C3E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63CD7-BFD1-45C9-84A0-A3098CF9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997F2-20E9-4ED6-8DD3-19A1315E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4903A-3384-4DCC-9443-46618545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A249A-B5F5-4BCA-944E-CFCC2500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C1BF6-214C-4064-BC85-57DDEE92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B7B4E-FD08-4C16-9395-B56D5BD4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9C0BF-57CE-46AA-8A64-B8D0B009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95E72-D44C-4B71-9D51-BCC75B94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D6D88-5DCB-44AC-970C-74D65A30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D3C8F-32EB-4F0A-98A4-D087698D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F7A0-4089-4D27-AF53-8A0E06D2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F585F-8369-4651-8D50-7E7C8191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91026-9193-4614-8FD5-D705AD35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F9C43-C8AD-4D98-B7AD-15148BA6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1743B-2775-4DF4-8B7B-1A252521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B60D3-8DEF-49C4-A2C4-6A092375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8DE8E3-0AFE-488D-86F8-7FF6916E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CFA07-9695-4A15-850D-A648D37C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A7509-B4BA-4AFA-AD4A-AE5E53A4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4CA75-7532-4CCE-908D-6E4CDF08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3D57A-693A-4E89-A226-21721990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1F62-457B-4746-BDD6-9C46FF3E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58207-F20D-4D8E-9C85-C4ED1D5E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FB5DB-6C17-48AC-944E-679057E7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19094-F430-4C87-B4DE-7A916434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EBC8C-CC1F-45FE-A5BE-25D29ECE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6C6A57-8326-49BE-BA75-5148FC4F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9CA84-5912-4B69-A575-3D16AD5F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5DCB3-32A3-45B0-92CF-C38420B7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BECE6-D531-4518-A2A4-DC74CBA5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37FDD6-89E8-4A20-A217-2D73A86C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5B489-F312-4D11-984D-70774B1F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B359-573D-418F-8803-12C87642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06854-D422-4A40-8E1D-4A5EE8FD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21DFC-F371-4C4C-BA47-FB5F1627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6D4F39-711D-4D20-BE14-6D6FA751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310F9-5729-4644-B65C-41DEC5BF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3BE45-EAD3-4242-A352-613C692F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F22A5-4C8E-404A-A4F8-5B92FD17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A410F9-5FFC-4C59-8BA1-29BA9DBA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951F2-AA35-44C4-B7DC-F7B69353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33A62-D7CB-46E6-B197-31E3B1F8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CCD1-06E4-4039-985C-C0ED321E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118E-AB25-4658-9178-E48949EF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CF3A-699E-462A-A2C6-971BD112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52C-187B-4FFF-80AD-B83749B4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845C-D50E-46D8-B752-B11D4D7F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DCB7-F9D1-4D9A-99AC-F148DF44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CB5D-892B-4F9F-B8BA-8EFE74AC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D41E-20B4-48BF-B429-E8197CAC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9224-BD9B-4029-9A2F-5BB5D7D9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E3849-42E6-4DE3-9E19-00BCDDC2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9B211-CD74-432B-970B-6A964753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300D0-62BE-481F-A86D-645872F3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A9839-76BD-4C3C-A681-8574246E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8E4F6-8B51-4D96-907A-3AD3FC32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B74-384C-4D3B-9516-E29E9149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5F63-36D9-4E6A-8ECB-2985DE35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D09B0-7085-4577-A746-19F1573D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64E78-86AF-4CD2-839C-5D0B848F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62595-5F3F-4F05-82AC-A785D049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29F54-1D9F-4A93-87FA-D8D7C650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8BFB4-4E5B-4AC9-A04D-0693BB58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5323B-0FF8-4C1D-8AD9-EEDA8BD9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2CB00-7440-4D59-A69A-6CADA8F6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C287D-4CA2-4C06-A1F8-3ADD72FC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7E20F-4EFC-4F14-AB51-6A51FAB8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0DF1-4DA9-4E3E-8DD6-2C0C6CD0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6D420-7DC0-460C-9D44-865D537C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CF732-D89F-4863-AD8F-BC7F6A99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C6AAA-1AA8-4FC8-A847-465AD4CF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EF5F3-6CE9-4A6E-AE9B-C229CF47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870E5-CC8D-4FE5-BAB2-4B90ACE6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85036-BAA6-4381-ADCF-FB441890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AC39F-B45C-4231-B2D3-128D204E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8DE5C-41CD-4BC9-9E85-0943ED59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519CB-106B-4824-B339-C2674C8D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7B332-147F-41F6-8574-CB2FF4C2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2E2-0A5F-4733-BB04-C30BA828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4C192-A075-4E81-A431-BE9D0B0B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B853B-0B24-4CA7-8BA4-B79A0DA6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FFDEF-02D0-4498-ADAD-0EDE4D14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7A78D-E07B-4519-9CC3-41FCC223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A02DD-EFE1-4DF5-9B7C-B1BC25C8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5F8B8-3299-48E0-B29E-BA05BC5A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086AA-352E-41F2-BE54-648534A7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2D8C1-7423-4158-A518-C580B23D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B078C-1813-44CD-BF85-03F9288F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DE04C-E8BC-4AD8-8F74-E4457AF7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729-C12B-4D5E-969A-75ABEBA2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0D843-4A55-4AEB-824D-C743EFF0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0D9FB-EF25-4502-91B6-AE369E64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CA0DCF-D4F3-4A44-9A8B-64F89F64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B0651E-372F-4556-B0FE-002848DD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4C83A5-BF13-432E-ACAE-E1965B13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F3799-6D7D-4030-9E21-4D2743CC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27F24-1482-45E7-ADCE-50B583B4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52328-12E3-40C6-B193-2CCC17E5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894304-B1EE-4FF2-A30D-C27D7685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F6DE83-4341-4612-BE49-3E9D4E6E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5F3-7284-48F6-A685-21436B97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FD5E0B-D966-4890-BB9B-A0AB0A9F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9D4ED6-D16C-47F7-B499-8C4F6AFC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373BA-3CBC-4134-8054-0AFD5681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C33CB-3DDD-476A-BE0D-9C56A0DA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F4F0E-A3FC-4F05-B34F-E9991E56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10F68-2432-4AB9-8BD2-3CAB3035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446BC-E030-479F-A427-4D6F4F14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7D49F-A8C7-44E9-8263-0FF9C9CE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1C132-BCD4-414D-8759-3269C4B8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504D9-FC68-436F-A3B8-6FE599D3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55C-61D2-4C1B-AD7B-486ED9A3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FD4F4-7532-4BE8-AA3D-35D54D32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2F2A1-EC4D-4A90-B149-77F50B24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327B9-3F47-44E0-BCC2-64FD6312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7535D-6F06-4BC5-A821-8EE4676B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00B0D-61A8-4381-A69A-976DCC04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C6F60-0B1E-4982-9226-B3AEBB06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FACCD-54B7-4E54-B1D3-EE4CE97D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A1CB6-3C48-471F-9179-E4C4041A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DE438-440D-4263-899D-E3B5BA17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A9BAC-C8B1-4962-A283-8FB9E9B8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3B6-294D-4DF7-B0CD-990B49C3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89448-52A4-4983-AC73-8BB2955D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F883F-241E-4A89-B5A9-14DBF50B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D37E7-8829-4D46-A750-8A72138D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B201F-E37F-4624-B819-6CD40F05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23053-2F71-4A64-9FC0-AA0AB24E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1A7EE-D4B6-4ABB-B6CC-F683F1CC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681A9-FA53-4788-8CF3-4CA3B3A1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1E954-20B4-4887-8F8C-37857DAD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40D82-3B5D-4E4B-9FB6-BC25C380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777CB-BE0F-4229-8FFE-91526A0B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7BEC-356E-43C7-9088-1C973F942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57E2-722F-4E7D-BBD7-BB74B68ECB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3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240E-2213-4253-AEA7-680E1C343D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0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PlaceHolder 1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42B7-0CB1-44BE-A3B1-860DC4FEB3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8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8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9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D08F-4546-4567-8263-42C4EB0891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7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7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8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dt" idx="4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8707-68A5-4443-8A8A-C6E35348304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E5B4-483E-4985-A0EA-7C8A10153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70B6-A0C8-4F2F-BBC7-2BA67F07AD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9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9E01-B252-4FB2-9B7B-1C8582FAF1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9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9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3444-D891-4906-B281-494DB39A0C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5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5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6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D61A-31EE-4A0D-A973-D19C2CCC7B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1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758B-987F-435D-A742-338963D37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7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F50E-1D4D-4273-8BCD-C04CDBD95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3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A92B-B1F9-4877-AB33-66E3E2D8D9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Monotype Corsiva"/>
              </a:rPr>
              <a:t>                      </a:t>
            </a:r>
            <a:r>
              <a:rPr b="0" lang="en-US" sz="4400" spc="-1" strike="noStrike">
                <a:solidFill>
                  <a:srgbClr val="cc00ff"/>
                </a:solidFill>
                <a:latin typeface="Monotype Corsiva"/>
              </a:rPr>
              <a:t>Народы  Май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64" name="" descr=""/>
          <p:cNvPicPr/>
          <p:nvPr/>
        </p:nvPicPr>
        <p:blipFill>
          <a:blip r:embed="rId1"/>
          <a:stretch/>
        </p:blipFill>
        <p:spPr>
          <a:xfrm>
            <a:off x="971640" y="1384200"/>
            <a:ext cx="6048360" cy="4543560"/>
          </a:xfrm>
          <a:prstGeom prst="rect">
            <a:avLst/>
          </a:prstGeom>
          <a:ln w="0">
            <a:noFill/>
          </a:ln>
        </p:spPr>
      </p:pic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837120" y="3933360"/>
            <a:ext cx="230652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Носкова Юлия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232 групп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уда исчез народ Майя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2"/>
          <a:stretch/>
        </p:blipFill>
        <p:spPr>
          <a:xfrm>
            <a:off x="1187280" y="2097000"/>
            <a:ext cx="6697800" cy="3922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Назовите местонахождение народов Майя?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еверо-запад Северной Амер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юго-запад Южной Амер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еверо-восток Северной Амер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Юго-восток Северной Амер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0" name="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4608360" cy="453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Какие календари изобрели Майя?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у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еч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нер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3" name="upimg" descr=""/>
          <p:cNvPicPr/>
          <p:nvPr/>
        </p:nvPicPr>
        <p:blipFill>
          <a:blip r:embed="rId1"/>
          <a:stretch/>
        </p:blipFill>
        <p:spPr>
          <a:xfrm>
            <a:off x="3276720" y="1557360"/>
            <a:ext cx="5524560" cy="3994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Что представляла собой письменность Майя?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истему из словесных и слоговых зна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ероглиф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ириллиц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6" name="" descr=""/>
          <p:cNvPicPr/>
          <p:nvPr/>
        </p:nvPicPr>
        <p:blipFill>
          <a:blip r:embed="rId1"/>
          <a:stretch/>
        </p:blipFill>
        <p:spPr>
          <a:xfrm>
            <a:off x="3564000" y="2133720"/>
            <a:ext cx="5184720" cy="4047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Расположите периоды в правильном порядке и охарактеризуйте их?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нний доклассический период(около 2000-900 года до н. э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здний доклассический период (около 400 годов до н. э. — 250 года н. э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здний классический период (около 600—900 года н. э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нний классический период (около 250—600 года н. э.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редний доклассический период (около 900—400 года до н. э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Основные гипотезы исчезновения народов Майя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кологическая гипот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экологическая гипот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1" name="" descr=""/>
          <p:cNvPicPr/>
          <p:nvPr/>
        </p:nvPicPr>
        <p:blipFill>
          <a:blip r:embed="rId1"/>
          <a:stretch/>
        </p:blipFill>
        <p:spPr>
          <a:xfrm>
            <a:off x="4197240" y="1600200"/>
            <a:ext cx="4019760" cy="4498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уществуют ли сейчас народы Майя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183" name="" descr="Tunkan Maia Yucatan.jpg"/>
          <p:cNvPicPr/>
          <p:nvPr/>
        </p:nvPicPr>
        <p:blipFill>
          <a:blip r:embed="rId1"/>
          <a:stretch/>
        </p:blipFill>
        <p:spPr>
          <a:xfrm>
            <a:off x="2873520" y="1600200"/>
            <a:ext cx="3395520" cy="4530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57:26Z</dcterms:created>
  <dc:creator>07100</dc:creator>
  <dc:description/>
  <dc:language>en-US</dc:language>
  <cp:lastModifiedBy>07100</cp:lastModifiedBy>
  <dcterms:modified xsi:type="dcterms:W3CDTF">2009-11-26T13:37:27Z</dcterms:modified>
  <cp:revision>8</cp:revision>
  <dc:subject/>
  <dc:title>                      Народы  Майя</dc:title>
</cp:coreProperties>
</file>